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18B526C5-3870-43D1-9C39-D6961512BFC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2C1E2BC9-2ABA-49C8-8777-C6B394DC37E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Tab%208%20-%20Teaching%20PSP1/Teaching%20PSP1.ppt" TargetMode="External"/><Relationship Id="rId2" Type="http://schemas.openxmlformats.org/officeDocument/2006/relationships/hyperlink" Target="file:///../Tab%209%20-%20PSP1%20Data%20Presentation/PSP1%20Data.ppt" TargetMode="External"/><Relationship Id="rId3" Type="http://schemas.openxmlformats.org/officeDocument/2006/relationships/hyperlink" Target="file:///../Tab%2010%20-%20PSP1%20Grading/EX%20PSP1%20Grading.ppt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Tab%2010%20-%20PSP1%20Grading/EX%20PSP1%20Grading.ppt" TargetMode="External"/><Relationship Id="rId2" Type="http://schemas.openxmlformats.org/officeDocument/2006/relationships/hyperlink" Target="file:///../Tab%2011%20-%20Teaching%20PSP2/Teaching%20PSP2.ppt" TargetMode="External"/><Relationship Id="rId3" Type="http://schemas.openxmlformats.org/officeDocument/2006/relationships/hyperlink" Target="file:///../Tab%2012%20-%20PSP2%20Data%20Presentation/PSP2%20Data.ppt" TargetMode="External"/><Relationship Id="rId4" Type="http://schemas.openxmlformats.org/officeDocument/2006/relationships/hyperlink" Target="file:///../Tab%2013%20-%20PSP2%20Grading/EX%20PSP2%20Grading.ppt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Tab%2013%20-%20PSP2%20Grading/EX%20PSP2%20Grading.ppt" TargetMode="External"/><Relationship Id="rId2" Type="http://schemas.openxmlformats.org/officeDocument/2006/relationships/hyperlink" Target="file:///../Tab%2014%20-%20Final%20Report%20Grading/EX%20Final%20Report%20Grading.ppt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Tab%203%20-%20Licensing/Licensing%20&amp;%20Auth.ppt" TargetMode="External"/><Relationship Id="rId2" Type="http://schemas.openxmlformats.org/officeDocument/2006/relationships/hyperlink" Target="file:///../Tab%204%20-%20Teaching%20PSP%20Courses/Teaching%20PSP%20Courses.ppt" TargetMode="External"/><Relationship Id="rId3" Type="http://schemas.openxmlformats.org/officeDocument/2006/relationships/hyperlink" Target="file:///../Tab%204%20-%20Teaching%20PSP%20Courses/EX%20Inst%20Support%20%20tool.ppt" TargetMode="External"/><Relationship Id="rId4" Type="http://schemas.openxmlformats.org/officeDocument/2006/relationships/hyperlink" Target="file:///../Tab%205%20-%20Teaching%20PSP0/Teaching%20PSP0.ppt" TargetMode="External"/><Relationship Id="rId5" Type="http://schemas.openxmlformats.org/officeDocument/2006/relationships/hyperlink" Target="file:///../Tab%207%20-%20PSP0%20Grading/EX%20PSP0%20Grading.ppt" TargetMode="External"/><Relationship Id="rId6" Type="http://schemas.openxmlformats.org/officeDocument/2006/relationships/hyperlink" Target="file:///../Tab%207%20-%20PSP0%20Grading/EX%20PSP0%20Grading.ppt" TargetMode="External"/><Relationship Id="rId7" Type="http://schemas.openxmlformats.org/officeDocument/2006/relationships/hyperlink" Target="file:///../Tab%206%20-%20PSP0%20Data%20Presentation/PSP0%20Data.ppt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1036800" y="1828800"/>
            <a:ext cx="25905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036800" y="1752480"/>
            <a:ext cx="6597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Course Introduc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803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4920" y="1409760"/>
            <a:ext cx="84438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eaching PSP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Over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Fundamental Planning Concep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Schedule Planning and Track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Planning and Tracking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Commit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, continu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PROBE Methods A &amp; B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Estimating with PROBE II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Using PSP1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PSP1 data present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Exercise: PSP1 gra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8200" y="811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4920" y="1409760"/>
            <a:ext cx="80010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SP1 grading exercise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Over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Software Qual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Software Desig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2, continu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Design Verific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Understanding &amp; Improving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Quality Performa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Planning &amp; Tracking Qual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Using PSP2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PSP2 data present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Exercise: PSP2 gra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803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4920" y="140976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2, continu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Defining &amp; Improving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Personal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SP2 grading exercise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Exercise: Final report gra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nal report grading exercise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ing to teach PS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the PS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ass Data Exerci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2.1 Grading Review Homewor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823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409760"/>
            <a:ext cx="80740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roducing PSP and TS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Qualification ex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 conclusion and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will help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plan for teaching the PSP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common problems and pitfalls that your students may encounter, and know how to help them overcome these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how to grade and analyze studen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your role as a change agent in introducing the PSP to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demarks and Service Mar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360" y="1714320"/>
            <a:ext cx="7413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following are service marks of Carnegie Mellon University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MMI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Software Process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ersonal Software Process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following are registered trademarks of Carnegie Mellon Univers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pability Maturity Model®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MM®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4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of instructors and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ing the PSP to oth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agend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logistics and building fac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al me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course, you will underst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effectively teach the PSP to oth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grade student assignments and analyze resulting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of a change agent in introducing the PSP into an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ching the PSP to Oth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ly teaching the PSP to others requires that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145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and understand the steps, tools, and methods of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145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your role in teaching the PSP in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145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your role as a change agent for technology transf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our Role as a Change Ag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experience has shown that introducing the PSP requires more than just teaching; technology transfer is also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course, we’ll discu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transition models and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roles as an agent for technology transi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use the TSP to help you introduce the disciplined methods of PSP into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our Role as Teach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course, we’ll discu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’ve learned about effective teaching strateg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on problems, pitfalls, and student err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plan for course delive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grade student assignments and analyz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88840" y="803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409400"/>
            <a:ext cx="8337600" cy="5078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 introduc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SP licensing &amp; authorizat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Teaching PSP Cour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Exercise: Using the PSP instructor support too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Over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Introduction to the PSP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Using PSP0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Exercise: PSP0 grad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6"/>
              </a:rPr>
              <a:t>PSP0 grading exercise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7"/>
              </a:rPr>
              <a:t>PSP0 data present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8Z</dcterms:modified>
  <cp:revision>274</cp:revision>
  <dc:subject/>
  <dc:title>No Slide Title</dc:title>
</cp:coreProperties>
</file>